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0471-DE05-43FA-943D-91FA61F2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19EC-57D0-4029-B5DA-EC6FC87A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85B0-9E50-4CA0-B673-AF43E44F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A347-661D-41B1-A598-26D3E3BC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CCE1-DEDC-44BF-9761-2D183F8B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5590-7521-4233-B638-384EC2C5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98BA-5EF3-4DBB-8D4D-41ADBB3E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B4C0-2F47-4702-8EB8-170696DC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AB0-39DF-4E3C-9858-AF94D3AA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133-EE5C-4E36-A479-F8CAFDFB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51E0-5AD8-49ED-83F8-528256AA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358F-0836-4B2C-A164-F4079A64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1AC7-E261-48DE-AD3F-AE8FB9C52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7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8 de en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39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 le examina a los pacie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he verbs SER &amp; ESTAR mean the same thing in English “to be”. What is the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65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65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65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65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 p.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MAR QUIZ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886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13:46:28Z</dcterms:created>
  <dc:creator>Helen Zumaeta</dc:creator>
  <dc:description/>
  <dc:language>en-US</dc:language>
  <cp:lastModifiedBy>Helen Zumaeta</cp:lastModifiedBy>
  <dcterms:modified xsi:type="dcterms:W3CDTF">2013-01-10T03:22:07Z</dcterms:modified>
  <cp:revision>16</cp:revision>
  <dc:subject/>
  <dc:title>Me llamo ________ Clase 7IM La fecha es el 27 de mayo del 2011</dc:title>
</cp:coreProperties>
</file>